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1.jpeg" ContentType="image/jpeg"/>
  <Override PartName="/ppt/media/image12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</p:sldMasterIdLst>
  <p:notesMasterIdLst>
    <p:notesMasterId r:id="rId42"/>
  </p:notesMasterIdLst>
  <p:sldIdLst>
    <p:sldId id="256" r:id="rId43"/>
    <p:sldId id="257" r:id="rId44"/>
    <p:sldId id="258" r:id="rId45"/>
    <p:sldId id="259" r:id="rId46"/>
    <p:sldId id="260" r:id="rId47"/>
    <p:sldId id="261" r:id="rId48"/>
    <p:sldId id="262" r:id="rId49"/>
    <p:sldId id="263" r:id="rId50"/>
    <p:sldId id="264" r:id="rId51"/>
    <p:sldId id="265" r:id="rId52"/>
    <p:sldId id="266" r:id="rId53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notesMaster" Target="notesMasters/notesMaster1.xml"/><Relationship Id="rId43" Type="http://schemas.openxmlformats.org/officeDocument/2006/relationships/slide" Target="slides/slide1.xml"/><Relationship Id="rId44" Type="http://schemas.openxmlformats.org/officeDocument/2006/relationships/slide" Target="slides/slide2.xml"/><Relationship Id="rId45" Type="http://schemas.openxmlformats.org/officeDocument/2006/relationships/slide" Target="slides/slide3.xml"/><Relationship Id="rId46" Type="http://schemas.openxmlformats.org/officeDocument/2006/relationships/slide" Target="slides/slide4.xml"/><Relationship Id="rId47" Type="http://schemas.openxmlformats.org/officeDocument/2006/relationships/slide" Target="slides/slide5.xml"/><Relationship Id="rId48" Type="http://schemas.openxmlformats.org/officeDocument/2006/relationships/slide" Target="slides/slide6.xml"/><Relationship Id="rId49" Type="http://schemas.openxmlformats.org/officeDocument/2006/relationships/slide" Target="slides/slide7.xml"/><Relationship Id="rId50" Type="http://schemas.openxmlformats.org/officeDocument/2006/relationships/slide" Target="slides/slide8.xml"/><Relationship Id="rId51" Type="http://schemas.openxmlformats.org/officeDocument/2006/relationships/slide" Target="slides/slide9.xml"/><Relationship Id="rId52" Type="http://schemas.openxmlformats.org/officeDocument/2006/relationships/slide" Target="slides/slide10.xml"/><Relationship Id="rId53" Type="http://schemas.openxmlformats.org/officeDocument/2006/relationships/slide" Target="slides/slide11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"/>
          <p:cNvSpPr/>
          <p:nvPr/>
        </p:nvSpPr>
        <p:spPr>
          <a:xfrm>
            <a:off x="0" y="0"/>
            <a:ext cx="69552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dt" idx="111"/>
          </p:nvPr>
        </p:nvSpPr>
        <p:spPr>
          <a:xfrm>
            <a:off x="394020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 type="sldImg"/>
          </p:nvPr>
        </p:nvSpPr>
        <p:spPr>
          <a:xfrm>
            <a:off x="1150560" y="698040"/>
            <a:ext cx="465300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 type="ftr" idx="112"/>
          </p:nvPr>
        </p:nvSpPr>
        <p:spPr>
          <a:xfrm>
            <a:off x="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PlaceHolder 6"/>
          <p:cNvSpPr>
            <a:spLocks noGrp="1"/>
          </p:cNvSpPr>
          <p:nvPr>
            <p:ph type="sldNum" idx="113"/>
          </p:nvPr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6482-A14C-46E2-A428-09E0ECC924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650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4780-7050-4C7F-A0CB-82B89DAE11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7FC8-9AAE-4774-9ABB-D8153AE41D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90BC-B1BA-40A2-88DD-DCC2D24940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75B1-0987-44F5-9D7E-1355791FBF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656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03DC-7B54-4161-ABB6-7BFB2C8C36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2CCF-6B03-4E3E-951C-8E8A2C71EC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1"/>
          <p:cNvSpPr>
            <a:spLocks noGrp="1"/>
          </p:cNvSpPr>
          <p:nvPr>
            <p:ph type="sldImg"/>
          </p:nvPr>
        </p:nvSpPr>
        <p:spPr>
          <a:xfrm>
            <a:off x="1150920" y="70020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660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CC0A-512E-428F-B756-4CF6CEF498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1"/>
          <p:cNvSpPr>
            <a:spLocks noGrp="1"/>
          </p:cNvSpPr>
          <p:nvPr>
            <p:ph type="sldImg"/>
          </p:nvPr>
        </p:nvSpPr>
        <p:spPr>
          <a:xfrm>
            <a:off x="1150920" y="70020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663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443A-5777-45FB-B866-E98B50D535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849A-6791-41D6-A266-00C652CD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650E-FEC3-4A59-93AB-8420858E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C36600-F8B9-4555-8D00-17D29A39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2F5769-F041-4535-AC01-049DA70A2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F189AC-9BC2-438E-8306-D6581D812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5E600F-F725-4F83-9EB0-EF809DBB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4884C6-0ED5-4023-A3D2-97EC0A14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D255BE-5C09-4EEA-90F6-8804235E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C17BD4-B262-4BC5-A9D2-EB78E754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B6AB25-AD38-4007-B50C-A7D14FC1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4FB197-73B9-47D8-9FC3-BE4814B627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4E4FFA-EE37-4517-8438-2A13946EF6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A29F-0D5C-40E5-9DEF-A1F04EBC0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D67736-4629-4B76-A1B0-A6E2973F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14E77D-CB11-4A3D-BDBF-915273E1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18F2CE-DA75-4B2F-9220-66951BD5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9EACAC-B0AB-4981-BB4C-B517E167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25D3EB-C04D-451A-9DEE-AFEF26FB6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445F3C-6180-490E-956E-D93ACD01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39D707-D00F-4527-98ED-B2022920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A0E773-A25E-48A4-9D9E-FD336855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8BEDF7-134C-4FAA-BCBB-69C91479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0C50F6-F343-46DB-A021-32737155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3A32-93D8-40A3-8452-8BDB2F9D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696F1E-A90C-4A9B-8814-A632055C84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BB05E1-145C-4FFA-8995-94818C1A8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49A3B1-7184-494A-BC18-B14C9119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E8BA33-004A-498F-B8F8-A3D68473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4051DE-DA4F-4AAB-B912-3D459D77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80AD50-9ADD-46C6-871F-CEB345DE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58CC67-194B-4C4B-929F-0ECCA0B3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BBAF9D-7F20-4894-A8DE-C1C1721E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7C2A5A-1E05-4478-9DC8-AE03BD59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1F69B7-D271-4B82-B469-029EDE3A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86BB-D96E-4FD1-9248-D718EDB7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5AB291-07F1-4546-8AA2-B6912F8B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7752ED-D22E-4AFC-AD21-EA87A016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7029D6-13AA-4A69-BC01-2B055692D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15C434-D951-4F22-9494-FEE3A180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E67378-A74E-48EB-A8F3-61E45A58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9CC82F-7902-4EE6-B0AA-7E533C2B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4A3430-8190-4A54-AC69-9CFBEF5A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4C9AAF-51F0-46C5-864A-4307FD3E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7C5FAC-B353-4A4C-A816-DB0627A9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7A8863-AA82-4A6C-AC3D-C693570B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93C6-2F33-43A3-8478-F567BD27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379F01-B598-4158-B95D-65CEB260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04730F-DB8B-4A33-885D-A9AF91F4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A87073-0373-4AD1-9558-640A0635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53040E-F7A4-4547-A8FA-B75F692A3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2A2ABC-8960-4DF6-8198-8630B8709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662D30-C6B1-427B-81C5-CDB92D1F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AE7AE4B-0B82-49BF-82EE-69835429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C72256-32A4-4316-B273-63A229CC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60D9129-BE96-4EBA-952C-335E61BA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6CE4C12-4D4E-43C2-A39A-C1FCA12C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29E9-4B0E-450C-8313-90B7550F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C1961E-A028-4087-AA0E-71B69EA4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6FBDBC-AC46-420B-83B4-1A8BD97A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226DF61-0AAB-4E80-ACB0-A9551741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C06BE5A-B838-4B13-AAF7-932238D8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F1D8D65-BC0D-4198-99F7-11D56A36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3EBE094-FD81-4635-AF34-5B625FEB8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34DA0B3-BA75-4B7B-8013-65202448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1D9A21-6F07-4C01-93D5-F35679A42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53CD56-A79C-4514-B14A-4C3ADEDC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B5661C-393A-4364-8F47-68160331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D237-1A20-4B4B-87F1-7E1577F1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FD10ED-7C11-4C0E-B9A4-F1F32CBB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BC84AB-CAC9-4868-8DD1-AE160F3A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16D166-095B-4F48-B9A9-9780DEE7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E4370C-265E-4DFE-9E24-6EE8FD87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90F342-756C-4AAD-81A3-5FE0C633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601647-D004-41AE-B18C-2B8F907A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3C2D76-92C1-4F81-8EFB-C1C1921A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78CDC3-DC79-487F-B39F-C77E6D7E2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978AD6-5844-490E-BB10-629F0CDB3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0FC4279-DD12-49E6-868A-A8AB55517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8BB9-46A7-4DCE-8ED3-90BD1EF7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285342B-87EA-4194-845F-9A749A09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15FDB80-B197-4D4D-9915-363CB4CC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32FE890-9D30-4235-8456-749DE5C3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6DA532A-7E9A-4700-ABBC-0EB575CD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F808867-FF8D-4A55-8179-4DF95C94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6706941-AC77-4D5B-A6EF-847C8639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3740D0C-2B3B-40E0-803F-6E305D44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8D889F4-48C2-4873-B61C-185C7F66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875AC95-C158-4A99-BBE1-83ECA5F2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223C8C4-3EBF-4292-906F-2D427EF61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7103-CCD8-433D-BB42-0FA61DB0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4088D59-FC15-43AA-A3B3-34081E46A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8A89215-2834-482B-B0DC-2DB2A0BC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0D30D1E-FD9A-4079-AC05-DC708DDC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4BC043F-E98D-48BA-B701-0F050095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298553A-1AE0-4381-8318-2D56FA44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599667E-05B8-4AA2-A2D1-BF6E0D0C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6FC08E5-CBF6-42D2-81A1-1591DBC5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0A20165-C05C-4DEB-961F-6160ACEC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7C272B8-795D-429C-98F9-BD3491AD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A2CA46E-F3CB-45C9-A41B-1A86C0CE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BF50-474F-440E-B0C1-A2B6D4FC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E2D6CC1-8FB8-4759-915C-AAE6FEEF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7EAC2BB-3A33-4C8D-A5A5-11C3BB59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B5FBE0E-F87A-4636-A4E7-04D587EB8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5B51509-AE04-4A57-A0BC-596E2DD5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7E0BE50-3C61-47ED-B7F5-15C37B03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BD7E010-ECC6-464F-84D0-F64866E0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9D083DB-0A94-4A9E-955F-EA0C0B80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DBDF041-387D-44AC-80D3-3A0418F7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55B0A1F-C6D1-4C4A-BEFE-B3F5FE1C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F3F9599-6235-4640-9998-5A145FE0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33E7-1E75-4F82-8469-53A25949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5E19-DA6C-4F1B-B92B-699FF174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88B87AC-4BA6-49B9-B966-1AA69BE6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5CEDFD7-AEBC-4437-B60C-F5A6D3EC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3F05CBE-7C30-42CE-826C-E5E084D8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04F4A18-E98B-4AE9-AE9C-71E26928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1AA5412-F200-4B22-8870-E72C14DEE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DFD8F71-A05F-42F6-AB0A-5BB51A7F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735EDF7-F77D-4D71-8166-08E2E4A5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9FDBA06-2625-4A18-85C2-0A5228CB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21365AE-8BEF-4A9E-B9E3-BE615E5E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BA661E3-99EF-4F14-888C-59D43091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F2ED-1C32-4149-A606-A084931B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03989BA-7151-4051-B244-02D46502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5728374-8855-4381-9DD5-650FEC9C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6186768-EEB1-42CB-970A-FB1DC440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C1DD022-3EF1-4995-8BB9-E484FCD6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C81C9D7-2757-415F-A7B1-629B18B4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DA5FDB2-1CB7-40A2-9540-9436E791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46B298E-4642-4BE1-B0D6-7E4E19FDE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155E771-0C73-4BDE-8DF1-36A83231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322E1D1-2245-4EDF-ABD7-EFE0BB86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F31C23C-74FB-400F-83C2-94CA72DE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A4AB-0394-4482-96D1-9A051196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449F1B1-2D63-4449-9F2D-CDB1DFB3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6919EA1-D53F-4FCA-ADD6-D36CCB99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DB5B676-9D9F-410D-A1B5-5101CD8C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3D4568C-8ECE-44A0-B072-BEB10643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B0E827D-8C24-42E7-A328-6B3AB27D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7948C29-92EB-47D1-A11A-1F9B8054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2EBF000-A3A3-4F8D-8941-5EB6F644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842FCA4-29E5-4E72-AFAB-88874E1C0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36C32A2-5339-4BB9-8817-418B45D5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8A6E65-2EDF-4159-87EE-7F71667064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18DF-F019-43F0-BDEC-E15E8E18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00570E-5D0D-4D98-B0A8-8A390A0C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DE239B-E868-4594-95FC-1F5511F9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93E101-4C7E-43EF-B012-9EEF5940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10444E-FDA7-4EB7-ABDE-2D29EF54B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7DDAF5-3CAF-4BCB-AADB-393B6452A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79FC35-20F6-4892-BB53-E02F8D1F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999334-7B83-4A27-A752-A5B692C7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CD29C2-90A1-41DF-B797-1A8F204A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013853-3B40-4F91-B50E-5EC9CD80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F8250D-0F0C-4DA3-94F1-235B6D63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1BF3-5D18-4A10-9DB7-B668DD5A4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68D6A8-059E-4EDB-A2BF-384791DFE9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1609C39-4950-45A2-A5F1-7A386E403E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82EA01B-6052-4B64-B3B5-80A9DD5B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FA0FBF6-B082-40DB-86C9-9E890561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5889427-D4A5-4160-9EB1-998EFF54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EC89638-332D-4263-BB4F-31405A3E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509B0FB-A1FA-4B4F-BA85-57DB4844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6D2D3C4-58CE-4202-AA35-052BDE79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9740C4F-3DF5-450C-8CED-26797709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0A1B261-AC42-4E00-8165-02A19C2A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EF465-CE2C-4DF7-980A-07347B9A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8B6A379-ABFF-482C-9858-6F1E1569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9E16422-53C1-4E3C-AB75-596E8F52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78D3AC8-732E-423D-B68E-DB7ECDDE39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A555FB6-8F63-4439-BFE0-728593D0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6381C97-8536-4E42-A6EF-745B5FD5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0760D2F-AD99-44A3-858C-9BE4B6F5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10CBD02-FD3A-4F78-9980-6C0C0232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448995E-8EA6-4F70-ACEF-D7AFC05D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DC46C6C-3671-442E-9853-A7C496E6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3EA188C-9CA8-478F-9D9A-05D3B4EA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FC6DD-F6A9-4977-BB2E-FF4F6FE2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AB6BCAD-4B59-42A8-9E8F-787A3899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43DC079-5D90-4B97-AA8F-2C2359B5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6CACADF-DD0E-4262-87CD-99FFEEDA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54646CF-305F-4712-9A69-4B2C3AF01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B3499FB-4FEB-4D70-A191-8A99845C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A493799-C103-43E1-837B-746BFF7D9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F22198C-6EA1-4B7E-B12E-D064DE53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EDB0ED4-D00E-4DA0-977A-30D6E2EB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283932D-C54F-42B5-BBD1-ADA4A250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EB2A6EC-041A-47DD-BC0A-97D99C34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23150-DCBC-49F1-B026-ED02D9B8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F647220-EB9D-4FC7-8C46-42DCCEDC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D33C437-0AE6-494B-89B8-1EED02D1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86746F4-7031-4C85-963E-F991AEDE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DC6EB41-E21B-4BE0-8F5A-5B921510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B16C6C9-2A7D-4730-B721-FBA4194E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3615626-3057-48E7-A44E-95E4ECAEE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95ED4EF-0AB6-4E7E-9CCF-D0288FD6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5EEBBD0-1E58-4023-BE11-9AB159C7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D5ADE2E-F006-4F7A-8840-42DD5FDB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085A1FC-4219-4EF9-A130-9BDE7B5F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2E084-6073-4C52-8EFF-D1F1AE2B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3D1A16B-EE55-432A-ABFB-AEE4FCBB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A58E608-4078-4925-AF22-14180A43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5B7E930-CE97-43CC-8846-6949EEAB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62E2FAE-5693-4FA7-9BF5-5126F05D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2307B76-2844-4FCB-8693-242B9831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E961532-F00D-4AF9-ADC8-9A6F3D0B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BBE4542-B57B-40FC-98EF-FD93007A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F920748-6029-4396-9830-D97442352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50151FC-2D84-48B7-9D42-44EE6EFB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8784554-D90F-466B-83C2-3138FD776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203E1-99C3-4FA9-82FB-43AE6A2E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A89DE13-B4A2-4542-89EE-05944FF0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84CC3E3-ED56-4B86-BE4E-E617C26B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3FDFAF3-F5EA-46DE-A8CE-3CD1157E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99A423B-7F9E-489E-97C4-9104AE22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CB8A839-2BF7-4751-A878-1A177E21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5E8A179-8EFB-4AEF-AAEF-E7645168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DA77C29-4393-41EF-93E1-AACE5EDB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14F11F1-CF87-4164-AF6D-374946E9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C3728E7-7E74-4B5C-9FD2-D4B87193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CBE2E6C-DC94-4569-95E3-F3B3BCCE4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4C5F-5178-4D97-84F5-CA6E9117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2ADFD-DC03-4BB3-ABC8-93A7FECE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160F082-08E7-4E2E-B52A-37F97C59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6B7AA04-C68C-4597-BC2B-2050ABD0C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749BCF2-98AB-49CD-AA4C-51B395A4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925D24F-C1A4-4CB0-9C7F-9802A616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C145FAA-000D-4003-B96B-B669FCEC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0E774DC-9293-4EAF-B598-8AA70C57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1C3E977-206B-42EB-8ABD-9AA44504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2086EBA-CA19-45B1-B7B3-C7A08D47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D96B8C6-7578-4597-98BC-6068B972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8711CD6-C53F-487E-9F6F-589E57D9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CA10C-731E-420A-BA83-5D7DF9AC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127965F-FC02-4AD3-9E44-17133D94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3835F38-DBAB-4BBC-B7DF-6ACC0ED4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ADCB0B8-90D6-4015-B19C-74429095B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354CA93-7795-4AD8-A1FD-46E8E3E05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CEB1A18-4723-47BF-952E-52C94EFB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3E3E215-3DF6-4C84-A7E4-B7967D5E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A6E188E-10F3-4F3B-A0FB-6184B42A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1EB15BA-A55D-4488-BDA9-29DD1306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9AB81EC-4636-4B79-A6DD-168FE19D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8768A66-46FE-4F56-9201-C8964408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55F91-A865-422C-BC57-184F4987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A6D6E4D-5759-4196-97F4-FB8F228B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6F77495-69C5-4B6F-B336-040C3C54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34C0BBF-DBF2-4ECD-8F94-0E8FDD5A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16E15A7-BD54-45F3-9008-A99A4965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DECA020-8B0C-4BD7-B7DB-D11F705A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111AA2F-7C74-4917-8EA0-46609F913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D720661-D5AB-419C-9F1F-1BF2576F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BB846B2-C7A1-45EA-9C61-CF87487D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E79D98A-7409-477B-BC43-A918566B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92836EF-37C6-40C9-9DA9-9AE8B304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D009B-341B-4DA4-A592-E5826A40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5879EC5-5321-4B16-BE92-8637E7A2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239ED87-F65A-45E6-8CB1-D1A0A4E5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50F44C2-ADC6-41EB-9B56-C8ADF758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E44CE91-E201-4370-95B2-9AF02FCB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86E74F6-67CE-47A9-9E47-4A58B44B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36CC3AF-01A0-49B2-B94A-50094D01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09DB7EB-71D0-4E33-917B-03FF6BE01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BCF9278-22C6-4A22-BA9A-D6A1CB8B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9653212-29A4-43E7-A0E9-86210B7F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E54BE62-DC0D-4800-B9BD-D8103B28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2E290-650F-4519-8B36-927CC4F9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5971C79-D56F-4635-AAC4-124D5E85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906D9F7-1C7A-40C6-8F9B-87BF3545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4D41D2F-C7E7-41A1-B8F3-E1D8A36C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9977BCC-1842-4636-84D4-CE68FC93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926B399-B68A-4109-AE99-6773EFEE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530F67E-BBC9-47A9-B1D5-7CE11729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AEBBE87-D9A7-474A-A269-E36AA124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2A324FD-76B3-448B-9434-C12C77DB0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1101918-2CBC-4DF6-9641-FEF9169E5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3ACB921-E162-4F68-A1DD-574135667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6DAED-F0B4-4419-A4FC-A4B2F516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DD8F614-A055-47E5-9701-10E57400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3F34A39-270F-4814-B020-67C09C33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33097F5-0EC0-497D-9C26-763E13DF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844CC9F-E26F-4D70-8803-856AA615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08322A8-137E-4840-897A-C913611D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6150550-99C3-46BA-B7DA-1F941DE1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B69811C-F851-4AE1-96B5-E21EEF00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9E51E44-0062-4F6E-8608-D29C3054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0C97891-5576-4157-949D-C535DA7D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D66807D-8BA3-48DD-B783-EA714CB7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BAB8D-B548-4F59-85B0-F65CA0651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916E39E-8FCD-4E55-84BF-6D2060AAB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B0D3DCD-81C0-46EB-AE68-ABE76CC6C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988D0A5-77E7-4342-8057-F417AB37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A89DF66-D955-4CB4-8D1F-65113C43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8EDE7B5-3847-4BAA-AC5A-C313193F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4C6ED88-30B8-4903-B212-4F9FCE31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5A0201B-FCF7-4C4B-8DDE-A723A00E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C553D2B-B497-4183-B631-86538635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B59EB42-40BC-4786-827C-630A0BEA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9EA4E01-9ED5-48A8-B55E-B01404D1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873BD-011E-4C5D-88D9-D1A6308CF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17FB936-A615-4898-8C72-75D185B4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2D44C38-C144-47A4-A2E9-2F002EE8B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707F709-9432-424E-963D-D743710F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D926ABC-50F7-4A02-9A59-8B504E9D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04F30CF-115F-4011-9D58-34AC2DCD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95C05AD-26BF-417C-8BE8-E7BF748D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5B0F6B7-70B6-4C09-9009-04E374B0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8DBCCF9-06EB-49AB-9563-C484033F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F1AD8E5-FDA6-421E-84B5-CF32B2CD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6972604-332D-4166-99FD-55B10C96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742B3-C8A8-4A4F-B53F-0CA0C012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2846DB5-0DD2-4C91-8684-644E50A4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CECAD07-1F95-4A21-8A69-C63AE0A7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58DE2AD-671D-4F3F-A6B8-9D743A9E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23D6F2E-9C4C-4716-A757-550448DBD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FF049A0-D37D-4EDE-AAF1-B9EA982D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711B43B-5B64-4445-9CD0-9CAB42B70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C864C9A-3028-45A7-B981-54ABACCA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39BF39B-F97F-49B6-8B4A-3E5C1374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28D9EE1-2D17-47A0-A81C-7040DB4F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986B962-3EF2-4541-A9DD-524AB034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746E7-ED84-49BF-AD78-7DB40023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4785344-02CF-417C-A5A1-804C6AD3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F237E3C-1833-40EA-A075-B6CAE461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EBAD334-0099-4DBB-A04C-48C98D9B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FA9C58E-6CA4-4DC1-95B8-8F702D97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4BA9AF4-9705-471F-92DE-211377BB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A977914-AF35-444D-A5BD-56183952E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CE3811B-6636-4A39-B3DD-B337C2EF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87D4AC8-983B-4560-ACAD-EE5BF969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55EE99C-179C-4F81-AFD3-B3DE88CA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D1F55A1-DDC3-4916-B666-B3730123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2CB2-54F8-41B2-BEE5-22CA193D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2E95B-5F8C-4BFD-AADA-E0E99AF8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7332126-9BD3-4C6D-BEB0-3A70E601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0192641-FB70-496B-AC14-D17CA40F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89A703C-A5A6-45C4-AC3E-BC3A9BB3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33A7AD9-AD9B-49FF-A102-37345380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02890FE-3874-4B60-B5DC-485CFFDF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ABC669B-7BC9-409F-A6D5-26684315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56A8162-9D39-4FF8-8772-5EA6F8DB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A74EBC6-DDE0-4F04-93E9-1E4E7B5D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0C41D1C-BD41-4781-8A43-CD2EEB03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19064DE-7BA8-4A10-B416-C6E2566F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CC1E9-5DA4-4F0B-B7DE-62679016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E5BDD18-AA40-49AC-BBE6-5302E4E7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04D6CAB-8A24-43D6-B69F-92B15E82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6245502-0F65-41FB-9657-EB28F71A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77FAA42-19A0-4C49-9334-4B781B23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FB00809-4F9B-4BA4-9CB1-5523FAD2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F6FABA9-400E-483C-9CF1-27AB23D5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12501CD-068E-4AE5-9FF3-559B32DF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3940341-E412-4321-BDDC-56C1324C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7A950257-57C2-4C81-9ADF-F2176626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D5A7319-9F9B-4385-B2B0-A347CB65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E0CF6-E806-40CF-8813-B5FA73AF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F58B687-2084-44FF-8889-0C97BF4B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3EB66D7-7203-4B08-9189-A6F2D69BD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5DFD552-D727-4F28-B97B-AF94246E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49E19D9-25BB-4C6A-B66C-4E3D0E3B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F3334F7-C4BA-40EF-81EA-68922C8A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801F0A7-1BFE-48EE-8B81-7756C0BC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02E240D-E3F4-4426-AA41-3B9B6A98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2371947-0B23-447F-93FD-E18651A5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5880AF6-248D-4C2B-9BF6-1D6D7D5F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4C2430C-DA3D-437B-A032-062C486F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63B7A-16DF-4246-BC77-8DB00FCE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617EC78-6A47-4AE9-8CA0-0EA9F72D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EA76DB3-64F9-49DC-A7D5-1D9ED40B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BD33EB7-3060-4C09-BB1E-E64DDA54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F8CB782D-7CF9-4DB6-BF26-49FA341DE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33D5CBD-5BBB-47EC-AF3C-965C4496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CBAA96F-FCA7-415C-AC38-42EF51AA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81F18BF-E205-4CCC-9592-43CFB320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DF38FDB-6EBB-4143-B52F-E64CF105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9659875-0683-4DA0-BB66-21B5DA69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3D469130-F4BF-468F-834D-1F96A7D4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E0432-3251-46AD-8BCA-3362F198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B7A51934-38FB-4413-8C31-9B6AD4B1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34C5CB8E-941A-44D9-A68D-27766880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22F4255-6E4E-47FD-A5C7-690F0BB2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512A686A-A404-4B8A-9ABE-0A725052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C79E571-4FB9-4E0F-942F-47A1D00F2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28D929F-8D07-484B-88C9-BBD036A0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1FAF22B-5FFD-4390-B594-A64198D9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D7AC204-BE16-493A-9F65-C26D4351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9AFC179-8B92-4C17-B813-E6EB8612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46A81E4-BB9F-487F-9E25-28978787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DAB0F-667B-412E-BBA8-B609EB6E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854A78D-A06C-43A2-8416-CFF3F003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9882244-1048-4810-BA33-9566FAF8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A8EEE6D-6D3E-4D87-AEB1-76BCDA0F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7E3EC48-E6ED-4804-880E-BE1024BB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804A2DA-A444-47E2-B912-ACDF7129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BFDE991-C913-4D8A-B787-A9741EA8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3A55756-986A-4D56-A8DA-55D3343D5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0EC7753-36A8-4201-AE17-7664DACAF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FB99A6C-4836-4F9F-9954-404CF221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667FAA42-F9CC-471D-BAE5-3BAB6B68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166A2-4526-41DB-AE0C-BF80AE47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C9F1E29-7D73-4D24-9BAF-479F4543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639DFFDD-FFBF-4BED-AC51-74B60382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8B68C27-B9FC-40B8-9059-9A379DA2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B854A1F-8B17-4438-B67C-C1FFFEAE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5C85AE6-4736-45BB-A2E4-5D8332FD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C227075-D082-4471-A52F-A770449E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729F5E5-DB5B-48A6-804B-5DE82B58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2300D89-57D9-4C28-90D3-D63CDF8B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A4DEC52-6889-42B8-85CA-30212EBD4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2A0618B-1448-44A1-B8C9-56632FF4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32368-B8C3-4545-9748-6E0B15646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DFCA848-6B21-4589-A0CA-D7A60E93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E0C1F63-9DD5-41E9-AA54-B1C18F97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1FFFC14-98B9-4F69-BCC3-173558E1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D34D3C4-FE8D-43AF-AC99-3F4953D5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22A0241-CB25-4D5E-A903-0B060BAE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3329A8C-1704-4D42-8095-F649E461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CD69336-381D-4F0C-9B78-0AC52BEB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A7DC934-B155-4282-8E52-DEFB2A99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4024110-F26E-4CA2-A352-DFE55262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B24D646-70F3-4486-994F-BDEBF05F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FFCCD-D7DD-4C3D-B540-03941730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5E5D807-C403-4350-A922-F44B21EE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1D4C-812A-4E4E-92BF-59C2BCD0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570A-5760-46C9-82A4-DAD67DEA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0858-D68F-46B3-984A-BCD3568E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045FC-85DC-499D-A4DC-8585BD715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0A1AA-101F-462F-8143-573FB1AD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82900-0FDD-4272-A45E-018AC56A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9E6EA-C7A7-480E-9FEE-6BF42D63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B5A51-E191-406A-9607-925B33AE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DCDDF-CCBD-4299-B6DF-A8927FF2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4DA6B-194E-4920-BADD-EAE98726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74AE-A6BE-497B-955A-171790C4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57B3E-17AC-4019-ABE1-A7BCABE8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31734-1066-4222-B312-E52C038E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07EEA-DD65-4DCA-9938-378AE73A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1F7F6-2A2D-45D1-B876-7D600CFCD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DCCC2-A31A-45E9-87D6-ED12044F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7993B-8EB0-4913-B45B-6E62433AD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4107E-F3B5-45C6-934A-80C548CD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E2C1D-A9DA-4855-9CEF-C00F1920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3CE63-14C2-4B7F-8E81-1D022556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33420-885C-434D-9332-BEFC8D56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461B-62D6-4197-AF8A-F89BABDF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961B5-CC94-47FB-90E3-039E02B5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61B82-00D5-4A73-B986-B9577297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34844-B705-4F8E-9D8E-2C8FCDFC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98E88-C2B2-4F17-B49E-6EA26A01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EDEA0-8E02-443B-84B5-60CBC4F4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6DB38-2794-43F6-9539-6A4604A0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473E4-40B1-4655-8594-769FAF96F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4FF908-9ED9-4E12-ABDC-ECCCAC78E3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67EA5B-AFF0-4493-B33B-2868106B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E5CC29-B360-49BA-81CC-F9276B37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9880" y="2666520"/>
            <a:ext cx="518184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FederationBold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Federation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33920" y="4419720"/>
            <a:ext cx="54100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t">
            <a:normAutofit fontScale="14000"/>
          </a:bodyPr>
          <a:p>
            <a:pPr marL="47880" indent="-47880">
              <a:spcBef>
                <a:spcPts val="499"/>
              </a:spcBef>
              <a:buClr>
                <a:srgbClr val="000000"/>
              </a:buClr>
              <a:buFont typeface="Federation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derationBol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ederationBold"/>
            </a:endParaRPr>
          </a:p>
          <a:p>
            <a:pPr lvl="1" marL="103680" indent="-39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derationBol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ederationBold"/>
            </a:endParaRPr>
          </a:p>
          <a:p>
            <a:pPr lvl="2" marL="159840" indent="-3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derationBol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ederationBold"/>
            </a:endParaRPr>
          </a:p>
          <a:p>
            <a:pPr lvl="3" marL="223920" indent="-31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derationBol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ederationBold"/>
            </a:endParaRPr>
          </a:p>
          <a:p>
            <a:pPr lvl="4" marL="288000" indent="-316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derationBol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ederationBold"/>
            </a:endParaRPr>
          </a:p>
          <a:p>
            <a:pPr lvl="5" marL="288000" indent="-316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derationBol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ederationBold"/>
            </a:endParaRPr>
          </a:p>
          <a:p>
            <a:pPr lvl="6" marL="288000" indent="-316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derationBol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ederation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Federation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30F6-4083-4761-86E0-F4FD8251F1FA}" type="slidenum">
              <a:rPr b="0" lang="en-US" sz="1400" spc="-1" strike="noStrike">
                <a:solidFill>
                  <a:srgbClr val="000000"/>
                </a:solidFill>
                <a:latin typeface="Federation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uppe 12"/>
          <p:cNvGrpSpPr/>
          <p:nvPr/>
        </p:nvGrpSpPr>
        <p:grpSpPr>
          <a:xfrm>
            <a:off x="0" y="0"/>
            <a:ext cx="9144000" cy="1969920"/>
            <a:chOff x="0" y="0"/>
            <a:chExt cx="9144000" cy="1969920"/>
          </a:xfrm>
        </p:grpSpPr>
        <p:sp>
          <p:nvSpPr>
            <p:cNvPr id="358" name="Rektangel 2"/>
            <p:cNvSpPr/>
            <p:nvPr/>
          </p:nvSpPr>
          <p:spPr>
            <a:xfrm>
              <a:off x="0" y="0"/>
              <a:ext cx="9144000" cy="1969920"/>
            </a:xfrm>
            <a:prstGeom prst="rect">
              <a:avLst/>
            </a:prstGeom>
            <a:gradFill rotWithShape="0">
              <a:gsLst>
                <a:gs pos="0">
                  <a:srgbClr val="7dc8d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ktangel 3"/>
            <p:cNvSpPr/>
            <p:nvPr/>
          </p:nvSpPr>
          <p:spPr>
            <a:xfrm>
              <a:off x="0" y="1703520"/>
              <a:ext cx="9144000" cy="266400"/>
            </a:xfrm>
            <a:prstGeom prst="rect">
              <a:avLst/>
            </a:prstGeom>
            <a:gradFill rotWithShape="0">
              <a:gsLst>
                <a:gs pos="0">
                  <a:srgbClr val="002060"/>
                </a:gs>
                <a:gs pos="100000">
                  <a:srgbClr val="1f88c8"/>
                </a:gs>
              </a:gsLst>
              <a:lin ang="16200000"/>
            </a:gradFill>
            <a:ln w="9360">
              <a:solidFill>
                <a:srgbClr val="22708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EDF7-D514-492F-B2FA-2B699EB4D875}" type="slidenum">
              <a: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7A04-5E15-49BE-B958-355CB1684B84}" type="slidenum">
              <a: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3A23-502C-4CE8-AD61-0BC442042B3C}" type="slidenum">
              <a: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9A29-2B9A-4613-9648-138A6B575653}" type="slidenum">
              <a: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D533-09F3-46E3-9E1F-EAF8BB523295}" type="slidenum">
              <a: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dt" idx="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sldNum" idx="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0C01-BDEB-4A91-A78D-F972C5EA24AC}" type="slidenum">
              <a: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dt" idx="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ftr" idx="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sldNum" idx="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073F-0472-4299-B9AD-7E35F92662F0}" type="slidenum">
              <a: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dt" idx="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ftr" idx="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sldNum" idx="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4A9A-4723-480C-93CD-597AA9C66E18}" type="slidenum">
              <a: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dt" idx="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ftr" idx="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sldNum" idx="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A4F2-F3A0-4888-BE87-7916D4F6E9BB}" type="slidenum">
              <a: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dt" idx="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ftr" idx="4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sldNum" idx="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F9C6-E160-43ED-8E1B-F73121FEB429}" type="slidenum">
              <a:rPr b="0" lang="en-MY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6880" y="609120"/>
            <a:ext cx="6019920" cy="80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FederationBold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Federation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66880" y="1676520"/>
            <a:ext cx="60199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20D9-ECF9-4B51-90DD-F13C6762BF37}" type="slidenum">
              <a:rPr b="0" lang="en-MY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ktangel 2"/>
          <p:cNvSpPr/>
          <p:nvPr/>
        </p:nvSpPr>
        <p:spPr>
          <a:xfrm>
            <a:off x="0" y="795240"/>
            <a:ext cx="9144000" cy="1230480"/>
          </a:xfrm>
          <a:prstGeom prst="rect">
            <a:avLst/>
          </a:prstGeom>
          <a:gradFill rotWithShape="0">
            <a:gsLst>
              <a:gs pos="0">
                <a:srgbClr val="7dc8d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Billede 3" descr="dreamstime_Handsoverlapping.jpg"/>
          <p:cNvPicPr/>
          <p:nvPr/>
        </p:nvPicPr>
        <p:blipFill>
          <a:blip r:embed="rId2"/>
          <a:stretch/>
        </p:blipFill>
        <p:spPr>
          <a:xfrm>
            <a:off x="7253280" y="785880"/>
            <a:ext cx="1890720" cy="1227240"/>
          </a:xfrm>
          <a:prstGeom prst="rect">
            <a:avLst/>
          </a:prstGeom>
          <a:ln w="0">
            <a:noFill/>
          </a:ln>
        </p:spPr>
      </p:pic>
      <p:sp>
        <p:nvSpPr>
          <p:cNvPr id="751" name="PlaceHolder 1"/>
          <p:cNvSpPr>
            <a:spLocks noGrp="1"/>
          </p:cNvSpPr>
          <p:nvPr>
            <p:ph type="dt" idx="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Your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9" name="Gruppe 12"/>
          <p:cNvGrpSpPr/>
          <p:nvPr/>
        </p:nvGrpSpPr>
        <p:grpSpPr>
          <a:xfrm>
            <a:off x="0" y="0"/>
            <a:ext cx="9144000" cy="1969920"/>
            <a:chOff x="0" y="0"/>
            <a:chExt cx="9144000" cy="1969920"/>
          </a:xfrm>
        </p:grpSpPr>
        <p:sp>
          <p:nvSpPr>
            <p:cNvPr id="790" name="Rektangel 2"/>
            <p:cNvSpPr/>
            <p:nvPr/>
          </p:nvSpPr>
          <p:spPr>
            <a:xfrm>
              <a:off x="0" y="0"/>
              <a:ext cx="9144000" cy="1969920"/>
            </a:xfrm>
            <a:prstGeom prst="rect">
              <a:avLst/>
            </a:prstGeom>
            <a:gradFill rotWithShape="0">
              <a:gsLst>
                <a:gs pos="0">
                  <a:srgbClr val="7dc8d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ktangel 3"/>
            <p:cNvSpPr/>
            <p:nvPr/>
          </p:nvSpPr>
          <p:spPr>
            <a:xfrm>
              <a:off x="0" y="1703520"/>
              <a:ext cx="9144000" cy="266400"/>
            </a:xfrm>
            <a:prstGeom prst="rect">
              <a:avLst/>
            </a:prstGeom>
            <a:gradFill rotWithShape="0">
              <a:gsLst>
                <a:gs pos="0">
                  <a:srgbClr val="002060"/>
                </a:gs>
                <a:gs pos="100000">
                  <a:srgbClr val="1f88c8"/>
                </a:gs>
              </a:gsLst>
              <a:lin ang="16200000"/>
            </a:gradFill>
            <a:ln w="9360">
              <a:solidFill>
                <a:srgbClr val="22708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2" name="PlaceHolder 1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ldNum" idx="5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Your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dt" idx="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ftr" idx="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sldNum" idx="5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4E5C-C06D-459F-9E30-7EC66FFA7590}" type="slidenum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dt" idx="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ftr" idx="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sldNum" idx="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A68E-E06E-41A6-91FD-8091A52B0D9C}" type="slidenum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dt" idx="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ftr" idx="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 type="sldNum" idx="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0E37-56C1-4728-959D-98D619EA5959}" type="slidenum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dt" idx="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ftr" idx="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sldNum" idx="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A113-3EA7-4DD5-BFB1-4E9C4BE068CE}" type="slidenum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dt" idx="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ftr" idx="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sldNum" idx="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81F7-C1B7-409A-AD05-5B5036A55B3E}" type="slidenum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dt" idx="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ftr" idx="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E130-CBAB-4C37-822E-9A97C5C94F36}" type="slidenum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dt" idx="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ftr" idx="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sldNum" idx="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1FA7-1FC2-457A-A68D-8D5D7F16E5A5}" type="slidenum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dt" idx="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ftr" idx="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 type="sldNum" idx="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A057-1CC6-49B2-85A6-F04051CC0BF5}" type="slidenum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09680" y="533520"/>
            <a:ext cx="6477120" cy="88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cc00"/>
                </a:solidFill>
                <a:latin typeface="FederationBold"/>
              </a:rPr>
              <a:t>Click to edit the title text format</a:t>
            </a:r>
            <a:endParaRPr b="0" lang="en-US" sz="2500" spc="-1" strike="noStrike">
              <a:solidFill>
                <a:srgbClr val="ffcc00"/>
              </a:solidFill>
              <a:latin typeface="Federation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D596-E881-48FD-81FB-A042527FB6C3}" type="slidenum">
              <a:rPr b="0" lang="en-MY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2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1" descr="WhitebackPPTCover4"/>
          <p:cNvPicPr/>
          <p:nvPr/>
        </p:nvPicPr>
        <p:blipFill>
          <a:blip r:embed="rId3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 type="dt" idx="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 type="ftr" idx="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 type="sldNum" idx="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1213-334E-4D48-8C9E-FEC1800DC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5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dt" idx="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ftr" idx="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 type="sldNum" idx="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EDF6-0512-4764-B1E8-AE32D270E57A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dt" idx="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ftr" idx="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 type="sldNum" idx="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99AA-37DE-41D2-84B4-D240393AAB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 type="dt" idx="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 type="ftr" idx="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 type="sldNum" idx="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DCDB-B8E6-4469-A1DB-79A212E8C5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1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75D3-54DD-41A8-BAA0-B7AFC8E682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3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 type="dt" idx="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 type="ftr" idx="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 type="sldNum" idx="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052B-056A-4C7B-9CFD-E883DA4DDD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5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dt" idx="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ftr" idx="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 type="sldNum" idx="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A610-B754-45D8-93E2-C4A87C5DE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7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 type="dt" idx="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 type="ftr" idx="1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 type="sldNum" idx="1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99A5-4289-45A3-BD53-27F129337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9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 type="dt" idx="1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 type="ftr" idx="1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 type="sldNum" idx="1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FC6C-34F2-44E9-AF63-73F8D5F33C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 type="dt" idx="1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 type="ftr" idx="1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5"/>
          <p:cNvSpPr>
            <a:spLocks noGrp="1"/>
          </p:cNvSpPr>
          <p:nvPr>
            <p:ph type="sldNum" idx="1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71A9-B425-4F8F-80A9-CA4C0526D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cc00"/>
                </a:solidFill>
                <a:latin typeface="FederationBold"/>
              </a:rPr>
              <a:t>Click to edit the title text format</a:t>
            </a:r>
            <a:endParaRPr b="0" lang="en-US" sz="3700" spc="-1" strike="noStrike">
              <a:solidFill>
                <a:srgbClr val="ffcc00"/>
              </a:solidFill>
              <a:latin typeface="Federation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4A60-C9DC-4A10-AE7F-96FDA01557AF}" type="slidenum">
              <a:rPr b="0" lang="en-MY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3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 type="dt" idx="1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 type="ftr" idx="1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 type="sldNum" idx="1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7A13-9B0A-4C0A-9E6E-1D16E99E1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C852-ABFE-43BE-AF3B-4DFBB07B43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666880" y="609120"/>
            <a:ext cx="6019920" cy="80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FederationBold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FederationBol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2666880" y="1676520"/>
            <a:ext cx="60199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53C9-CE3C-44B6-BDFD-4254A0E2AE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Gruppe 16" descr=""/>
          <p:cNvPicPr/>
          <p:nvPr/>
        </p:nvPicPr>
        <p:blipFill>
          <a:blip r:embed="rId2"/>
          <a:stretch/>
        </p:blipFill>
        <p:spPr>
          <a:xfrm>
            <a:off x="-60480" y="762120"/>
            <a:ext cx="9264960" cy="135864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105F-4474-4E53-8EBA-A1A17FB1C2D4}" type="slidenum">
              <a: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6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0584-F4F9-43CB-9E41-7A5D12305E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tford County Sch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vember 30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4" name="Rectangle 8" descr=""/>
          <p:cNvPicPr/>
          <p:nvPr/>
        </p:nvPicPr>
        <p:blipFill>
          <a:blip r:embed="rId1"/>
          <a:stretch/>
        </p:blipFill>
        <p:spPr>
          <a:xfrm>
            <a:off x="115920" y="1901880"/>
            <a:ext cx="930276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9" name="Picture 3" descr=""/>
          <p:cNvPicPr/>
          <p:nvPr/>
        </p:nvPicPr>
        <p:blipFill>
          <a:blip r:embed="rId1"/>
          <a:stretch/>
        </p:blipFill>
        <p:spPr>
          <a:xfrm rot="20986200">
            <a:off x="6490800" y="210600"/>
            <a:ext cx="2529000" cy="1619280"/>
          </a:xfrm>
          <a:prstGeom prst="rect">
            <a:avLst/>
          </a:prstGeom>
          <a:ln w="0">
            <a:noFill/>
          </a:ln>
        </p:spPr>
      </p:pic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eea"/>
                </a:solidFill>
                <a:latin typeface="Calibri"/>
              </a:rPr>
              <a:t>Ticket out the Doo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Narrow"/>
              </a:rPr>
              <a:t>Please complete th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Narrow"/>
              </a:rPr>
              <a:t>Ticket out the Door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Narrow"/>
              </a:rPr>
              <a:t>before you leav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ttp://region1rttt.wikispaces.com/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TextBox 8"/>
          <p:cNvSpPr/>
          <p:nvPr/>
        </p:nvSpPr>
        <p:spPr>
          <a:xfrm>
            <a:off x="7238880" y="63244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ttp://www.psdgraphics.com/backgrounds/sticky-notes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TextBox 5"/>
          <p:cNvSpPr/>
          <p:nvPr/>
        </p:nvSpPr>
        <p:spPr>
          <a:xfrm rot="20588400">
            <a:off x="7054200" y="809640"/>
            <a:ext cx="145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hat do I Need Now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AEE9-6165-455E-A1BA-8CF8EB2E686D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7eea"/>
                </a:solidFill>
                <a:latin typeface="Calibri"/>
              </a:rPr>
              <a:t>Region 1</a:t>
            </a:r>
            <a:br>
              <a:rPr sz="3600"/>
            </a:br>
            <a:r>
              <a:rPr b="1" lang="en-US" sz="3600" spc="-1" strike="noStrike">
                <a:solidFill>
                  <a:srgbClr val="007eea"/>
                </a:solidFill>
                <a:latin typeface="Calibri"/>
              </a:rPr>
              <a:t>Professional Development Consultan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"/>
          <p:cNvSpPr txBox="1"/>
          <p:nvPr/>
        </p:nvSpPr>
        <p:spPr>
          <a:xfrm>
            <a:off x="3045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nne Meig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anne.meiggs@dpi.nc.g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52-340-01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ert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md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urritu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denton-Chow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lizabeth City-Pasquotan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quim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"/>
          <p:cNvSpPr txBox="1"/>
          <p:nvPr/>
        </p:nvSpPr>
        <p:spPr>
          <a:xfrm>
            <a:off x="4571640" y="1676160"/>
            <a:ext cx="4343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h Edw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izabeth.edwards@dpi.nc.g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52-916-684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eauf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rtfo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y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rt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it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yrre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ashingt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7593-FA8C-40C1-B9ED-D0CA61B27F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eea"/>
                </a:solidFill>
                <a:latin typeface="Calibri"/>
              </a:rPr>
              <a:t>Before we begin, please go to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"/>
          <p:cNvSpPr txBox="1"/>
          <p:nvPr/>
        </p:nvSpPr>
        <p:spPr>
          <a:xfrm>
            <a:off x="304920" y="1066680"/>
            <a:ext cx="853416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ttp://region1rttt.wikispaces.com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thi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ikispa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your favorit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cate “Region 1 Events” on the left men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ve presentation and handouts on your deskt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te the ticket out the door at the end of the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eea"/>
                </a:solidFill>
                <a:latin typeface="Calibri"/>
              </a:rPr>
              <a:t>Go to the link below and minimize it for later u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eea"/>
                </a:solidFill>
                <a:latin typeface="Calibri"/>
              </a:rPr>
              <a:t>in the present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https://mxweb3.media-x.com/home/ncval/demo/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rname: Principaldemo (any number 1-4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sword: 12345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562E-54F5-4DB0-BB76-57C99A6E9546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eea"/>
                </a:solidFill>
                <a:latin typeface="Calibri"/>
              </a:rPr>
              <a:t>Our Agend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lcome and Introdu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cRel-Observation T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cket out the Do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0" name="Picture 4" descr="C:\Users\eedwards\AppData\Local\Microsoft\Windows\Temporary Internet Files\Content.IE5\PR30TM4L\MP900401668[1].jpg"/>
          <p:cNvPicPr/>
          <p:nvPr/>
        </p:nvPicPr>
        <p:blipFill>
          <a:blip r:embed="rId1"/>
          <a:stretch/>
        </p:blipFill>
        <p:spPr>
          <a:xfrm>
            <a:off x="5257800" y="2133720"/>
            <a:ext cx="3384720" cy="2820960"/>
          </a:xfrm>
          <a:prstGeom prst="rect">
            <a:avLst/>
          </a:prstGeom>
          <a:ln w="0">
            <a:noFill/>
          </a:ln>
        </p:spPr>
      </p:pic>
      <p:sp>
        <p:nvSpPr>
          <p:cNvPr id="162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7305-01DA-4A3F-90D1-F44DA8E3C3EC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eea"/>
                </a:solidFill>
                <a:latin typeface="Calibri"/>
              </a:rPr>
              <a:t>Can We Agre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be actively invol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lue differ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ree to Disag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take it person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hon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y focused on established purpose an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FE73-E667-4C4B-8EA0-532B4B30E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eea"/>
                </a:solidFill>
                <a:latin typeface="Calibri"/>
              </a:rPr>
              <a:t>Principal/AP Responsibil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"/>
          <p:cNvSpPr txBox="1"/>
          <p:nvPr/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and understand the North Carolina Professional Teaching Stand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ipate in training to understand and implement the Teacher Evaluation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vise the Teacher Evaluation Process and ensure that all steps are conducted according to the approved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62C5-8058-4026-9E0E-77CEBE740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eea"/>
                </a:solidFill>
                <a:latin typeface="Calibri"/>
              </a:rPr>
              <a:t>Principal/AP Responsibil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"/>
          <p:cNvSpPr txBox="1"/>
          <p:nvPr/>
        </p:nvSpPr>
        <p:spPr>
          <a:xfrm>
            <a:off x="533520" y="13712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teacher’s strengths and areas for improvement and make recommendations for improving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the contents of the Teacher Summary Evaluation Report accurately reflect the teacher’s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nd supervise implementation of action plans as appropri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15F0-E5F9-4048-8CF6-49E3E32A21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eea"/>
                </a:solidFill>
                <a:latin typeface="Calibri"/>
              </a:rPr>
              <a:t>Let’s Look at the NC Teacher Evaluation Instru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s://mxweb3.media-x.com/home/ncval/demo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rname: Principaldemo (any number 1-4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sword: 12345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C796-2E32-44FB-BD1A-5E15672AF878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eea"/>
                </a:solidFill>
                <a:latin typeface="Calibri"/>
              </a:rPr>
              <a:t>Having Difficulti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tact:  Betty Pug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tac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customercare@mcrel.or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http://customercare.mcrel.org/helpconsole2010/nceesfaqs/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C82C-84CF-425A-8419-FCD1D3B81E40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7" name="Picture 5" descr="questions.jpg"/>
          <p:cNvPicPr/>
          <p:nvPr/>
        </p:nvPicPr>
        <p:blipFill>
          <a:blip r:embed="rId1"/>
          <a:stretch/>
        </p:blipFill>
        <p:spPr>
          <a:xfrm>
            <a:off x="990720" y="685800"/>
            <a:ext cx="6949800" cy="5211720"/>
          </a:xfrm>
          <a:prstGeom prst="rect">
            <a:avLst/>
          </a:prstGeom>
          <a:ln w="0">
            <a:noFill/>
          </a:ln>
        </p:spPr>
      </p:pic>
      <p:sp>
        <p:nvSpPr>
          <p:cNvPr id="163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A22F-DDFF-4909-9FC3-C7C6086FB0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5:06:07Z</dcterms:created>
  <dc:creator>jgardner</dc:creator>
  <dc:description/>
  <dc:language>en-US</dc:language>
  <cp:lastModifiedBy>eedwards</cp:lastModifiedBy>
  <dcterms:modified xsi:type="dcterms:W3CDTF">2011-11-29T15:33:28Z</dcterms:modified>
  <cp:revision>132</cp:revision>
  <dc:subject/>
  <dc:title>RESA Implementation Sessions Day 2 Process</dc:title>
</cp:coreProperties>
</file>